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951E-AA77-4AFC-BC27-F780C1FA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2118-E384-4362-821A-C4132B50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23B0-BE1E-407E-A9F4-8F0ADB23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C6AF-178F-4539-B3D4-30EDF7EE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B141-EADC-4084-8944-0C08F851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F568-F626-4D06-BDB4-4B1A3E96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0A95-176B-4827-8129-BEC2BEA6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E6CF-EA97-4106-A9CC-1219F620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8C3C-3991-4E76-9E42-47A61C04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5CAB-E60A-4311-AEDD-2DB2991C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2F64-4861-4C59-B1A8-F2C0FC9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CC5E-F180-44EF-9E4E-3C8A8F3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A606-332C-4E99-8302-5A137F9D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B4C3-25D1-4492-B0F0-09F8C6F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C971-FC7C-4E2E-B139-904FBD8B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D861-562C-498D-8D89-AE436537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F939-049C-481E-AA5A-F5EBA8D1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E8DC-DF9C-4DF1-A503-6FE3D22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59A1-31DF-4F48-8E00-6B020A30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6B3C-3BA5-4F9D-96D8-2B686A9B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5488-7865-4C5A-81C3-67C62C2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51A2-0AC6-470A-AD57-F358E55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E2C8-BA3C-45F4-B085-386289C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2DC3-C697-4348-B714-59F5038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9BDC-FE02-4F4B-B7F7-5FCDD47F279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67AA-9F9D-4194-B372-6D81EF8C44E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655200"/>
            <a:ext cx="1127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че благи, триеди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 на мъдрост приучи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и пратил Своя Син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шни нас да насърч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580680" y="2153520"/>
            <a:ext cx="794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чрез Твоя мощен Дух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видетелствувам вред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й, що аз от Тебе чух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га вест за този св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26040" y="1777680"/>
            <a:ext cx="79765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лез в сърце ми като Ца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царуваш там сами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тоз е моят д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пази го невред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837000" y="1777680"/>
            <a:ext cx="75556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учи ме Твоя пъ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т трънлив, но възходящ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ари ме с дух крила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ел, безстрашен и летя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00280" y="1777680"/>
            <a:ext cx="7629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да се познавам с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зари ме с чистот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еди ме в Твоя хра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рам-олтар на любов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09:56Z</dcterms:modified>
  <cp:revision>7</cp:revision>
  <dc:subject/>
  <dc:title>Slide 1</dc:title>
</cp:coreProperties>
</file>